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F607C-3AB4-4AE4-9A3F-F99C1D0F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B56A3-09FF-4F97-892E-77FB8679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09D8-AA81-4BF0-BFCF-371E9BF6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1014-2E11-4CDA-90BE-82889F45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1C58-FB84-4F7C-8CAF-E4D3FEE6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D044-5B6E-4C37-9B60-61191ACD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CC48-51D1-480E-A8A7-CA0AA7F9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3AC6-12C4-4BD0-B57A-70A85830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29E5-57BA-4A71-8C76-7A4BEC4F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DCC3-D4DF-485E-AB27-11D07666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55BF-1D17-4ACC-B579-50FDE4B8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1AE63-CB66-465D-A791-03C4F0E0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92F9-463B-4705-ABB2-C25A0092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E6BB-0B50-4CEB-A43A-8EB449E8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2908-515D-4F76-B17B-638AB96B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3798-7D11-43B5-B453-C9ABE943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8313-AB3F-4D3A-A3D7-ED49EFF7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BA7C-AD1B-4920-83E8-B30D98F1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87895-3B4E-4785-B8B1-8389395B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C6F84-B57E-4D43-8C91-4B62433D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3EC0D-A766-43FB-AD63-0901B72E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E1A51-3BFF-4125-B367-EC150494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EB180-4F61-490B-A2B6-81FA2DBD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C244-6407-4665-AA16-D28AB3FF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B654-052D-4971-AE63-2610B19995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F3F6-1EB7-4A84-B6FC-AF6A7CC7C2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gda.org/Forums/printthread.php?s=0414cefe0786798a25be93bea23aa1fc&amp;threadid=4029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gamespot.com/pc/action/thief3/review.html" TargetMode="External"/><Relationship Id="rId5" Type="http://schemas.openxmlformats.org/officeDocument/2006/relationships/hyperlink" Target="http://www.gamespot.com/pc/action/thief3/review.html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ai-depot.com/Games/888.html" TargetMode="External"/><Relationship Id="rId8" Type="http://schemas.openxmlformats.org/officeDocument/2006/relationships/hyperlink" Target="http://ai-depot.com/Games/888.html" TargetMode="External"/><Relationship Id="rId9" Type="http://schemas.openxmlformats.org/officeDocument/2006/relationships/hyperlink" Target="http://ai-depot.com/Games/888.html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6104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athfinding:</a:t>
            </a:r>
            <a:br>
              <a:rPr sz="5400"/>
            </a:b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Search Space Representation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2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 Ba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cripted AI Pat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Space representation is different than patrol path creation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ers want predefined patrol paths, so they script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s well only in predefined sequ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good for interactive behavior (i.e. combat, area-search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scripted patrol sequences separate from search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gular Gri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gular Gri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n’t work for 3D game worlds without some mod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ly used in strategy games (typically with a top-down perspectiv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vilization 3 displays only four sides to each cell, but actually can move in 8 directions (along the diagon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: High resolution grids have large memory footpr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: Provide random access look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gular Gri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457200" y="2303640"/>
            <a:ext cx="822960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rids and Move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ing in only 4 cardinal directions gives you unattractive angular pa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276720" y="358128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809880" y="35812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343400" y="358128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6920" y="358128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76720" y="41148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09880" y="41148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343400" y="411480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876920" y="41148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276720" y="4648320"/>
            <a:ext cx="53316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809880" y="4648320"/>
            <a:ext cx="533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343400" y="4648320"/>
            <a:ext cx="53352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76920" y="4648320"/>
            <a:ext cx="53316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276720" y="518148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809880" y="51814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343400" y="51814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876920" y="518148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181480" y="3886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505320" y="548640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505320" y="441936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505320" y="4419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4191120" y="3809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rids and Move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in the diagonals and you improve the movement some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581280" y="33526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114800" y="33526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648320" y="3352680"/>
            <a:ext cx="5331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181480" y="33526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581280" y="38862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114800" y="38862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48320" y="3886200"/>
            <a:ext cx="5331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181480" y="38862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581280" y="4419720"/>
            <a:ext cx="53352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114800" y="4419720"/>
            <a:ext cx="533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648320" y="4419720"/>
            <a:ext cx="53316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181480" y="4419720"/>
            <a:ext cx="53352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81280" y="49528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14800" y="49528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648320" y="495288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181480" y="49528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486400" y="36576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4876560" y="4648320"/>
            <a:ext cx="6094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3809880" y="51814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3809880" y="42670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3809880" y="3657240"/>
            <a:ext cx="5335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n Optimiz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ng-pulling or Line-of-sight testing can be used to improve this fur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ete any point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path when it is possible to get fro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n+1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need to travel through node ce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334120" y="43434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867280" y="43434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400800" y="434340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934320" y="43434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334120" y="4876920"/>
            <a:ext cx="53316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867280" y="4876920"/>
            <a:ext cx="53352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400800" y="4876920"/>
            <a:ext cx="533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934320" y="4876920"/>
            <a:ext cx="53316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334120" y="541008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867280" y="541008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400800" y="54100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934320" y="541008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334120" y="59436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867280" y="59436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400800" y="59436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34320" y="59436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162920" y="46483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6629400" y="5181480"/>
            <a:ext cx="53352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5638680" y="62485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5638680" y="56386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5638680" y="4571640"/>
            <a:ext cx="53352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905120" y="43434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438280" y="43434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971800" y="434340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505320" y="43434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905120" y="4876920"/>
            <a:ext cx="53316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438280" y="4876920"/>
            <a:ext cx="53352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971800" y="4876920"/>
            <a:ext cx="533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505320" y="4876920"/>
            <a:ext cx="53316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905120" y="541008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438280" y="541008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971800" y="54100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505320" y="541008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905120" y="59436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438280" y="59436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971800" y="59436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505320" y="59436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09880" y="46483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3200040" y="563868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2133360" y="61722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2133720" y="510516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2133720" y="4648320"/>
            <a:ext cx="5331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191120" y="5410080"/>
            <a:ext cx="9144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Another Optimizatio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29000" y="32004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962520" y="32004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495680" y="320040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2004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429000" y="3733920"/>
            <a:ext cx="53352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3733920"/>
            <a:ext cx="53316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495680" y="3733920"/>
            <a:ext cx="533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029200" y="3733920"/>
            <a:ext cx="53352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429000" y="42670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962520" y="4267080"/>
            <a:ext cx="5331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495680" y="42670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029200" y="42670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429000" y="48006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962520" y="48006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495680" y="48006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029200" y="48006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94240" y="3276720"/>
            <a:ext cx="1689120" cy="1892160"/>
          </a:xfrm>
          <a:custGeom>
            <a:avLst/>
            <a:gdLst/>
            <a:ahLst/>
            <a:rect l="l" t="t" r="r" b="b"/>
            <a:pathLst>
              <a:path w="1064" h="1192">
                <a:moveTo>
                  <a:pt x="1048" y="144"/>
                </a:moveTo>
                <a:cubicBezTo>
                  <a:pt x="1056" y="532"/>
                  <a:pt x="1064" y="920"/>
                  <a:pt x="904" y="1056"/>
                </a:cubicBezTo>
                <a:cubicBezTo>
                  <a:pt x="744" y="1192"/>
                  <a:pt x="176" y="1112"/>
                  <a:pt x="88" y="960"/>
                </a:cubicBezTo>
                <a:cubicBezTo>
                  <a:pt x="0" y="808"/>
                  <a:pt x="320" y="288"/>
                  <a:pt x="376" y="144"/>
                </a:cubicBezTo>
                <a:cubicBezTo>
                  <a:pt x="432" y="0"/>
                  <a:pt x="428" y="48"/>
                  <a:pt x="424" y="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Catmull-Rom splines to create a smooth curved 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rap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24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t of the search space representations are gra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think of grids as gra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ld be useful to have directed graphs (cliff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2055960" y="3736800"/>
            <a:ext cx="495612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rner grap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 waypoints on the corners of obsta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 edges between nodes where a character could walk in a straight line between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3"/>
          <a:srcRect l="20340" t="0" r="15254" b="0"/>
          <a:stretch/>
        </p:blipFill>
        <p:spPr>
          <a:xfrm>
            <a:off x="2286000" y="3355920"/>
            <a:ext cx="457200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hapter written by Paul Tozou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developed a shared AI platform for Thief 3 and Deus Ex 2: Invisible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d the combat AI systems for Microsoft's MechWarrior 4: Venge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ing member of Gas Powered G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programmed a real-time strategy game called WarBr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also written numerous AI articles for the Game Programming Gems and AI Game Programming Wisdom ser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rner Grap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-optimal p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 agents appear to be “on rail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3"/>
          <a:srcRect l="0" t="0" r="50947" b="26972"/>
          <a:stretch/>
        </p:blipFill>
        <p:spPr>
          <a:xfrm>
            <a:off x="2286000" y="3127320"/>
            <a:ext cx="457200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orner Graphs and String-pulling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get close to the optimal path in some cases with String-pu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expensive line-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3"/>
          <a:srcRect l="49058" t="0" r="0" b="26972"/>
          <a:stretch/>
        </p:blipFill>
        <p:spPr>
          <a:xfrm>
            <a:off x="4495680" y="3201840"/>
            <a:ext cx="4038840" cy="175896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5791320" y="5029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ing-pul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4"/>
          <a:stretch/>
        </p:blipFill>
        <p:spPr>
          <a:xfrm>
            <a:off x="760320" y="3201840"/>
            <a:ext cx="340992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aypoint Grap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well with 3D games and tight sp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 to Corner Gra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nodes are further from walls and obsta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s wall-hugg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3"/>
          <a:srcRect l="5661" t="2461" r="7550" b="15778"/>
          <a:stretch/>
        </p:blipFill>
        <p:spPr>
          <a:xfrm>
            <a:off x="2286000" y="3733920"/>
            <a:ext cx="41911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aypoint Grap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not always find optimal path easily, even with string-pulling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760320" y="3051000"/>
            <a:ext cx="7623360" cy="28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ircle-based Waypoint Grap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as waypoint gra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add a radius around each node indicating open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s a little more information to each 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ges exist only between nodes whose circles overl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al games use a hybrid of Circle-based waypoint graphs and regular waypoint graphs, using Circle-based for outdoor open terrain and regular for indoor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ircular Waypoint Grap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6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in open ter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good in angular game wor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3"/>
          <a:srcRect l="3776" t="0" r="1888" b="23096"/>
          <a:stretch/>
        </p:blipFill>
        <p:spPr>
          <a:xfrm>
            <a:off x="2209680" y="3355920"/>
            <a:ext cx="457200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ircular Waypoint Grap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6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in open ter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good in angular game wor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3"/>
          <a:srcRect l="3776" t="0" r="1888" b="23096"/>
          <a:stretch/>
        </p:blipFill>
        <p:spPr>
          <a:xfrm>
            <a:off x="2209680" y="3355920"/>
            <a:ext cx="4572000" cy="265608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2590920" y="3733920"/>
            <a:ext cx="152280" cy="152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724280" y="586692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175280" y="5370480"/>
            <a:ext cx="47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497480" y="6019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3.93064E-006 L 0.01753 0.01688 L 0.06996 0.01896 L 0.1302 0.08023 L 0.146 0.13942 L 0.22065 0.13942 L 0.29218 0.14358 L 0.32222 0.21549 L 0.28732 0.26405 E">
                                      <p:cBhvr>
                                        <p:cTn id="20" dur="2000" fill="hold"/>
                                        <p:tgtEl>
                                          <p:spTgt spid="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pace-Filling Volum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ilar to Circle based approach, but use rectangles instead of cir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better than circle based in angular environments, but might not be able to completely fill all game wor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pace-filled Volum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rcRect l="6605" t="0" r="4191" b="16870"/>
          <a:stretch/>
        </p:blipFill>
        <p:spPr>
          <a:xfrm>
            <a:off x="1370160" y="1979640"/>
            <a:ext cx="6249960" cy="367488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 flipH="1" flipV="1">
            <a:off x="6857640" y="4191120"/>
            <a:ext cx="11430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6629400" y="4952880"/>
            <a:ext cx="137160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089120" y="457200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’t Get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avigation Mesh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les indoor and outdoor environments equally 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r walkable surfaces with convex polyg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s storage of large number of polygons, especially in large worlds or geometrically complex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in Thief 3 and Deus Ex 2 (vide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Performance and Memory Overhea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finding algorithm only half the pi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lying data structure is just as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able to using sort(), find(), copy() C++ Standard Template library functions with different container types (lists, vectors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performance character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avMes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ygons must be convex to guarantee that an agent can walk from any point within a polygon to any other point within that same polyg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possible to generate NavMesh with automated tool (was done in Thief 3 and Deus Ex 2) – diffic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2 types of NavMes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angle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polygons must be triang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done correctly, will not hug walls too tigh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-Sided-Poly-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have any number of sides, but must remain conv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usually represent a search space more simply than triangle based (smaller memory footpri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lead to paths that hug walls too tigh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2 types of NavMes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1720" y="2298600"/>
            <a:ext cx="807876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-Sided-Poly-Bas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1143000" y="1979640"/>
            <a:ext cx="6856560" cy="337176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1295280" y="54100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address this problem with post-proc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acting with local pathfind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finding algorithm must be able to deal with dynamic objects (things player can mo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use simple object avoidance systems, but can break down in worlds with lots of dynamic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acting with local pathfind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Space is static, so it can’t really deal with dynamic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design it to give some information to pathfinding algorithm that will he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I go this way instead?” – search space should be able to answer 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acting with local pathfind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446120" y="2058840"/>
            <a:ext cx="6176880" cy="354024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590920" y="3200400"/>
            <a:ext cx="228600" cy="2286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355200" y="160020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n’t want to do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5.78035E-006 L 0.12379 5.78035E-006 L 0.15226 0.06359 E">
                                      <p:cBhvr>
                                        <p:cTn id="46" dur="2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acting with local pathfind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1446120" y="2058840"/>
            <a:ext cx="6176880" cy="354024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2590920" y="3200400"/>
            <a:ext cx="228600" cy="2286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660840" y="160020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uld do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5.78035E-006 L 0.1316 5.78035E-006 L 0.13334 -0.06126 L 0.20313 -0.04647 L 0.26823 -0.00623 E">
                                      <p:cBhvr>
                                        <p:cTn id="52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erarchical Representa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 navigation problem down into lev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discussed in previous lectures by Prof. Muno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 Tozour may have done this too much in Thief 3 for the 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me environments just don't seem big enough from one loading screen to the next” – Gamespot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rying to move quickly through the City, loading times detract from game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right or wrong way to design search space repres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depend on world layout, your AI system and pathfinding algorithm, and also memory and performance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 benefits and drawbacks and make the best choice based on 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oal: Find representation th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ts within a reasonable amount of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s us the fastest possible search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aul Tozou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I designed for Thief 3 and Deus Ex 2 stored enough data in the NavMesh that units could create paths appropriate to their individual capabilities. A very tall unit would be able to query each node/polygon of the NavMesh to know that it couldn't fit through a crawlshaft. A fat NPC would be able to query the width of a doorway and know that it had to go another way. A character with very large, flat feet would know that it can't go up tall stairs or on steeply sloped surfaces. And so o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key is, if you represent the data in the right way, you can query it in your A* pathfinder to make sure that a given NPC will only create a path that it knows matches its particular movement/steering capabilitie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IGDA For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4"/>
              </a:rPr>
              <a:t>Gamespot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5"/>
              </a:rPr>
              <a:t>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7"/>
              </a:rPr>
              <a:t>Paul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8"/>
              </a:rPr>
              <a:t>Tozour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9"/>
              </a:rPr>
              <a:t> B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 Game Programming Wisdom 2, Chapter 2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ome properties of all representation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amentally a Search Space can be viewed as a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some atomic unit of navigation: n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number of connections between nodes: ed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graphs take up lots of memory and slow performance (more nodes/edges cause larger search spa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er simpler graphs leave smaller memory footprint, but run the risk of not accurately representing the game world (too simp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oal of Pathfinding algorith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mal path = not always straight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vel around swamp versus through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st expensive” 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e off between simplicity and optimality (too simple a representation and pathfinding will be fast, but will not find very high quality pa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pabilities of 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characters have different movement capabilities and a good representation will take that into acco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ts ask “Can I exist there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monsters can’t move through narrow walk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pabilities of 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505320" y="1676520"/>
            <a:ext cx="2057400" cy="13716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562720" y="1676520"/>
            <a:ext cx="2133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990360" y="16765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696080" y="1676520"/>
            <a:ext cx="0" cy="4343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990720" y="6019920"/>
            <a:ext cx="6705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990720" y="1676520"/>
            <a:ext cx="0" cy="4343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943600" y="3429000"/>
            <a:ext cx="609480" cy="13716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219320" y="2286000"/>
            <a:ext cx="838080" cy="9144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0" y="2514600"/>
            <a:ext cx="380880" cy="4572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95480" y="2514600"/>
            <a:ext cx="228600" cy="2286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C 0.00295 0.00902 0.00659 0.01827 0.01059 0.02728 C 0.01302 0.03306 0.0184 0.04416 0.0184 0.04416 C 0.0217 0.06127 0.01753 0.04555 0.02326 0.05688 C 0.02795 0.0659 0.02916 0.07214 0.0375 0.07584 C 0.04305 0.08116 0.04965 0.08486 0.05503 0.09064 C 0.05677 0.09249 0.05764 0.09595 0.05972 0.09688 C 0.06267 0.09827 0.06614 0.09688 0.06927 0.09688 L 0.29774 0.09688 L 0.35972 -0.04879 E">
                                      <p:cBhvr>
                                        <p:cTn id="6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5.83815E-006 C 0.00521 0.02311 0.01407 0.03676 0.02865 0.05063 C 0.03143 0.05317 0.03421 0.05618 0.03664 0.05918 C 0.04098 0.0645 0.04931 0.07606 0.04931 0.07606 C 0.05487 0.09803 0.07639 0.12878 0.08889 0.14589 C 0.09219 0.15051 0.09844 0.14589 0.1033 0.14589 L 0.31112 0.14589 L 0.46511 -0.11006 E">
                                      <p:cBhvr>
                                        <p:cTn id="10" dur="2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45087E-006 C 0.00573 0.02359 0.02205 0.04208 0.03489 0.05919 C 0.04566 0.07353 0.03316 0.06127 0.04444 0.07815 C 0.0467 0.08162 0.05 0.08347 0.05243 0.08671 C 0.0618 0.09919 0.06875 0.11353 0.07934 0.12463 C 0.08455 0.13619 0.09149 0.14266 0.09687 0.15422 C 0.09878 0.15861 0.10312 0.16694 0.10312 0.16694 C 0.10607 0.17896 0.11406 0.1859 0.12066 0.19445 C 0.13402 0.21156 0.13559 0.24347 0.15243 0.25781 C 0.15677 0.26659 0.16093 0.2733 0.16823 0.277 C 0.17604 0.29272 0.19288 0.29711 0.20625 0.30012 C 0.20781 0.3015 0.20972 0.30243 0.21111 0.30428 C 0.2125 0.30613 0.21284 0.30913 0.21423 0.31075 C 0.22031 0.31792 0.22239 0.31838 0.22847 0.32139 C 0.23455 0.32902 0.24305 0.33179 0.25069 0.33619 C 0.25607 0.33942 0.26128 0.34359 0.26666 0.34659 C 0.28541 0.357 0.25642 0.33619 0.28246 0.35307 C 0.28628 0.35561 0.28941 0.36 0.29357 0.36139 C 0.29774 0.36278 0.30208 0.36278 0.30625 0.36347 C 0.31406 0.36971 0.31666 0.37203 0.32534 0.37203 L 0.58889 0.36994 L 0.58889 -0.03167 E">
                                      <p:cBhvr>
                                        <p:cTn id="14" dur="2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nother Goa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Space generation should be automa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e from world’s raw geometry or from physics collision me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al node placement must be done for all world pieces.  Takes time and eff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20:18:18Z</dcterms:created>
  <dc:creator>dabj</dc:creator>
  <dc:description/>
  <dc:language>en-US</dc:language>
  <cp:lastModifiedBy>Hector Munoz-Avila</cp:lastModifiedBy>
  <dcterms:modified xsi:type="dcterms:W3CDTF">2005-10-25T17:47:26Z</dcterms:modified>
  <cp:revision>22</cp:revision>
  <dc:subject/>
  <dc:title>Pathfinding: Search Space Representations</dc:title>
</cp:coreProperties>
</file>