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735A-71CC-4A87-A551-98E6B705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6AD8-884A-42A2-B10B-4AC1581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FC71-D3B8-41F7-ACB4-2C665266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D313-E158-4E72-AE85-6994D92D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1512-2595-429A-AFC9-D6485688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91CA-559A-4E31-A5CB-76E21500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2DE6-8BD0-4FEA-8B30-17945E47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FCF6-8BE9-4419-8F99-5C20A56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4EE6-2E54-4E20-9CD5-47464E0E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10C-D13E-444A-9BA4-89A51028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1510-FB33-4757-8EF4-40ADFF1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2A0C-7F1F-4FB6-B03B-EF5D2492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148-9392-4373-B73A-26B53D5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B1D8-6E58-4719-95E8-5E59AED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B5D-7E8E-4BD2-8B07-BAF44037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092-3270-4579-84D3-BA716350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8EF6-EECE-44AA-B2FB-199D12F1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2BAC-5FA0-4171-BA56-04308707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54E4-CF91-4BA4-9747-2AE7DA11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5918-AC98-413A-BE5A-449CCE70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2E1A-F377-4446-BBBB-6D8FC2F2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202F-FBCC-4851-A75E-ED65C31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2487-E3ED-4FAE-B744-B2FC9A7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83B3-833E-41F4-B34B-95D5284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C04-9846-4C24-8953-91D0E4C62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8C2C-36BB-4D56-A9B8-62C75AC623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gda.org/Forums/printthread.php?s=0414cefe0786798a25be93bea23aa1fc&amp;threadid=4029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gamespot.com/pc/action/thief3/review.html" TargetMode="External"/><Relationship Id="rId5" Type="http://schemas.openxmlformats.org/officeDocument/2006/relationships/hyperlink" Target="http://www.gamespot.com/pc/action/thief3/review.html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ai-depot.com/Games/888.html" TargetMode="External"/><Relationship Id="rId8" Type="http://schemas.openxmlformats.org/officeDocument/2006/relationships/hyperlink" Target="http://ai-depot.com/Games/888.html" TargetMode="External"/><Relationship Id="rId9" Type="http://schemas.openxmlformats.org/officeDocument/2006/relationships/hyperlink" Target="http://ai-depot.com/Games/888.html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610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athfinding: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Search Space Represent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 B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ripted AI Pat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representation is different than patrol path cre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rs want predefined patrol paths, so they scrip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ell only in predefined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for interactive behavior (i.e. combat, area-searc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scripted patrol sequences separate from search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’t work for 3D game worlds without some mo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used in strategy games (typically with a top-down perspectiv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ization 3 displays only four sides to each cell, but actually can move in 8 directions (along the diago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 High resolution grids have large memory foot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: Provide random access look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57200" y="2303640"/>
            <a:ext cx="82296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ids and Mov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in only 4 cardinal directions gives you unattractive angular 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812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35812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35812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35812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41148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41148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41148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76920" y="41148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46483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46483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46483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920" y="46483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1814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51814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51814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76920" y="51814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3886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05320" y="54864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505320" y="44193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19112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ids and Mov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in the diagonals and you improve the movement some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1480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335268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48320" y="388620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44197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4197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648320" y="44197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44197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49528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86400" y="3657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876560" y="46483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809880" y="51814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809880" y="4267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809880" y="3657240"/>
            <a:ext cx="533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 Optimiz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ng-pulling or Line-of-sight testing can be used to improve this fur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ny point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ath when it is possible to get fro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+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need to travel through node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41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4343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4343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343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4876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00800" y="4876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343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341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672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00800" y="5410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0080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62920" y="4648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629400" y="5181480"/>
            <a:ext cx="5335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5638680" y="62485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638680" y="56386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638680" y="4571640"/>
            <a:ext cx="5335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4343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4343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051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4876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71800" y="4876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053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382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5410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5053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7180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46483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200040" y="56386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133360" y="6172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133720" y="51051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33720" y="46483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54100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nother Optimiz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29000" y="3200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62520" y="3200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95680" y="3200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200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29000" y="3733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3733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3733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3733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2900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426708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4800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2920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94240" y="3276720"/>
            <a:ext cx="1689120" cy="1892160"/>
          </a:xfrm>
          <a:custGeom>
            <a:avLst/>
            <a:gdLst/>
            <a:ahLst/>
            <a:rect l="l" t="t" r="r" b="b"/>
            <a:pathLst>
              <a:path w="1064" h="1192">
                <a:moveTo>
                  <a:pt x="1048" y="144"/>
                </a:moveTo>
                <a:cubicBezTo>
                  <a:pt x="1056" y="532"/>
                  <a:pt x="1064" y="920"/>
                  <a:pt x="904" y="1056"/>
                </a:cubicBezTo>
                <a:cubicBezTo>
                  <a:pt x="744" y="1192"/>
                  <a:pt x="176" y="1112"/>
                  <a:pt x="88" y="960"/>
                </a:cubicBezTo>
                <a:cubicBezTo>
                  <a:pt x="0" y="808"/>
                  <a:pt x="320" y="288"/>
                  <a:pt x="376" y="144"/>
                </a:cubicBezTo>
                <a:cubicBezTo>
                  <a:pt x="432" y="0"/>
                  <a:pt x="428" y="48"/>
                  <a:pt x="424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atmull-Rom splines to create a smooth curved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t of the search space representations are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think of grids as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useful to have directed graphs (cliff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2055960" y="3736800"/>
            <a:ext cx="49561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ner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waypoints on the corners of obs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edges between nodes where a character could walk in a straight line betwee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rcRect l="20340" t="0" r="15254" b="0"/>
          <a:stretch/>
        </p:blipFill>
        <p:spPr>
          <a:xfrm>
            <a:off x="2286000" y="3355920"/>
            <a:ext cx="4572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apter written by Paul Tozo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developed a shared AI platform for Thief 3 and Deus Ex 2: Invisibl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combat AI systems for Microsoft's MechWarrior 4: Venge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ing member of Gas Powered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programmed a real-time strategy game called WarBr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also written numerous AI articles for the Game Programming Gems and AI Game Programming Wisdom se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ner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optimal p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 agents appear to be “on rai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3"/>
          <a:srcRect l="0" t="0" r="50947" b="26972"/>
          <a:stretch/>
        </p:blipFill>
        <p:spPr>
          <a:xfrm>
            <a:off x="2286000" y="312732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rner Graphs and String-pull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get close to the optimal path in some cases with String-p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expensive line-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rcRect l="49058" t="0" r="0" b="26972"/>
          <a:stretch/>
        </p:blipFill>
        <p:spPr>
          <a:xfrm>
            <a:off x="4495680" y="3201840"/>
            <a:ext cx="4038840" cy="1758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791320" y="5029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-pu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760320" y="3201840"/>
            <a:ext cx="340992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ell with 3D games and tight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Corner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nodes are further from walls and obsta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s wall-hugg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3"/>
          <a:srcRect l="5661" t="2461" r="7550" b="15778"/>
          <a:stretch/>
        </p:blipFill>
        <p:spPr>
          <a:xfrm>
            <a:off x="2286000" y="3733920"/>
            <a:ext cx="41911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always find optimal path easily, even with string-pull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760320" y="3051000"/>
            <a:ext cx="762336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le-based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as waypoint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add a radius around each node indicating ope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 little more information to each 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es exist only between nodes whose circles ove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games use a hybrid of Circle-based waypoint graphs and regular waypoint graphs, using Circle-based for outdoor open terrain and regular for indoor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ular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n open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in angular game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rcRect l="3776" t="0" r="1888" b="23096"/>
          <a:stretch/>
        </p:blipFill>
        <p:spPr>
          <a:xfrm>
            <a:off x="2209680" y="3355920"/>
            <a:ext cx="45720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ular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n open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in angular game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rcRect l="3776" t="0" r="1888" b="23096"/>
          <a:stretch/>
        </p:blipFill>
        <p:spPr>
          <a:xfrm>
            <a:off x="2209680" y="3355920"/>
            <a:ext cx="4572000" cy="26560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590920" y="3733920"/>
            <a:ext cx="152280" cy="152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58669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175280" y="537048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497480" y="601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93064E-006 L 0.01753 0.01688 L 0.06996 0.01896 L 0.1302 0.08023 L 0.146 0.13942 L 0.22065 0.13942 L 0.29218 0.14358 L 0.32222 0.21549 L 0.28732 0.26405 E">
                                      <p:cBhvr>
                                        <p:cTn id="20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ce-Filling Volu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to Circle based approach, but use rectangles instead of cir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better than circle based in angular environments, but might not be able to completely fill all game wor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ce-filled Volu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rcRect l="6605" t="0" r="4191" b="16870"/>
          <a:stretch/>
        </p:blipFill>
        <p:spPr>
          <a:xfrm>
            <a:off x="1370160" y="1979640"/>
            <a:ext cx="6249960" cy="36748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 flipH="1" flipV="1">
            <a:off x="6857640" y="419112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629400" y="4952880"/>
            <a:ext cx="13716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89120" y="45720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Ge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vigation Mesh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es indoor and outdoor environments equally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 walkable surfaces with convex polyg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storage of large number of polygons, especially in large worlds or geometrically complex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Thief 3 and Deus Ex 2 (vid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erformance and Memory Overhea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finding algorithm only half th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ying data structure is just a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ble to using sort(), find(), copy() C++ Standard Template library functions with different container types (lists, vector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performance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vMes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gons must be convex to guarantee that an agent can walk from any point within a polygon to any other point within that same poly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ossible to generate NavMesh with automated tool (was done in Thief 3 and Deus Ex 2) –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 types of NavMes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lygons must be trian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one correctly, will not hug walls too tigh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-Sided-Poly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have any number of sides, but must remain conv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usually represent a search space more simply than triangle based (smaller memory foot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lead to paths that hug walls too tigh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 types of NavMes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1720" y="2298600"/>
            <a:ext cx="80787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-Sided-Poly-Bas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143000" y="1979640"/>
            <a:ext cx="6856560" cy="33717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1295280" y="5410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ddress this problem with post-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finding algorithm must be able to deal with dynamic objects (things player can mo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simple object avoidance systems, but can break down in worlds with lots of dynam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is static, so it can’t really deal with dynam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design it to give some information to pathfinding algorithm that will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go this way instead?” – search space should be able to answer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446120" y="2058840"/>
            <a:ext cx="6176880" cy="35402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355200" y="16002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want to d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78035E-006 L 0.12379 5.78035E-006 L 0.15226 0.06359 E">
                                      <p:cBhvr>
                                        <p:cTn id="46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446120" y="2058840"/>
            <a:ext cx="6176880" cy="35402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660840" y="1600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d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78035E-006 L 0.1316 5.78035E-006 L 0.13334 -0.06126 L 0.20313 -0.04647 L 0.26823 -0.00623 E">
                                      <p:cBhvr>
                                        <p:cTn id="52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erarchical Represen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navigation problem down into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discussed in previous lectures by Prof. Mun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ozour may have done this too much in Thief 3 for the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 environments just don't seem big enough from one loading screen to the next” – Gamespot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rying to move quickly through the City, loading times detract from game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right or wrong way to design search space repres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depend on world layout, your AI system and pathfinding algorithm, and also memory and performance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benefits and drawbacks and make the best choice based on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oal: Find representation th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ts within a reasonable amoun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us the fastest possible search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ul Tozo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 designed for Thief 3 and Deus Ex 2 stored enough data in the NavMesh that units could create paths appropriate to their individual capabilities. A very tall unit would be able to query each node/polygon of the NavMesh to know that it couldn't fit through a crawlshaft. A fat NPC would be able to query the width of a doorway and know that it had to go another way. A character with very large, flat feet would know that it can't go up tall stairs or on steeply sloped surfaces. And so 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ey is, if you represent the data in the right way, you can query it in your A* pathfinder to make sure that a given NPC will only create a path that it knows matches its particular movement/steering capabiliti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IGDA 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Gamespot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Paul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Tozour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Game Programming Wisdom 2, Chapt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ome properties of all represent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lly a Search Space can be viewed as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some atomic unit of navigation: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umber of connections between nodes: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graphs take up lots of memory and slow performance (more nodes/edges cause larger search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impler graphs leave smaller memory footprint, but run the risk of not accurately representing the game world (too sim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oal of Pathfinding algorith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al path = not always straigh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 around swamp versus throug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st expensive”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off between simplicity and optimality (too simple a representation and pathfinding will be fast, but will not find very high quality pa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bilities of 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characters have different movement capabilities and a good representation will take that into ac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ask “Can I exist there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monsters can’t move through narrow walk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bilities of 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1676520"/>
            <a:ext cx="2057400" cy="13716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167652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990360" y="16765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96080" y="16765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990720" y="601992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90720" y="16765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943600" y="3429000"/>
            <a:ext cx="609480" cy="13716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2286000"/>
            <a:ext cx="83808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2514600"/>
            <a:ext cx="380880" cy="4572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25146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C 0.00295 0.00902 0.00659 0.01827 0.01059 0.02728 C 0.01302 0.03306 0.0184 0.04416 0.0184 0.04416 C 0.0217 0.06127 0.01753 0.04555 0.02326 0.05688 C 0.02795 0.0659 0.02916 0.07214 0.0375 0.07584 C 0.04305 0.08116 0.04965 0.08486 0.05503 0.09064 C 0.05677 0.09249 0.05764 0.09595 0.05972 0.09688 C 0.06267 0.09827 0.06614 0.09688 0.06927 0.09688 L 0.29774 0.09688 L 0.35972 -0.04879 E">
                                      <p:cBhvr>
                                        <p:cTn id="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83815E-006 C 0.00521 0.02311 0.01407 0.03676 0.02865 0.05063 C 0.03143 0.05317 0.03421 0.05618 0.03664 0.05918 C 0.04098 0.0645 0.04931 0.07606 0.04931 0.07606 C 0.05487 0.09803 0.07639 0.12878 0.08889 0.14589 C 0.09219 0.15051 0.09844 0.14589 0.1033 0.14589 L 0.31112 0.14589 L 0.46511 -0.11006 E">
                                      <p:cBhvr>
                                        <p:cTn id="10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5087E-006 C 0.00573 0.02359 0.02205 0.04208 0.03489 0.05919 C 0.04566 0.07353 0.03316 0.06127 0.04444 0.07815 C 0.0467 0.08162 0.05 0.08347 0.05243 0.08671 C 0.0618 0.09919 0.06875 0.11353 0.07934 0.12463 C 0.08455 0.13619 0.09149 0.14266 0.09687 0.15422 C 0.09878 0.15861 0.10312 0.16694 0.10312 0.16694 C 0.10607 0.17896 0.11406 0.1859 0.12066 0.19445 C 0.13402 0.21156 0.13559 0.24347 0.15243 0.25781 C 0.15677 0.26659 0.16093 0.2733 0.16823 0.277 C 0.17604 0.29272 0.19288 0.29711 0.20625 0.30012 C 0.20781 0.3015 0.20972 0.30243 0.21111 0.30428 C 0.2125 0.30613 0.21284 0.30913 0.21423 0.31075 C 0.22031 0.31792 0.22239 0.31838 0.22847 0.32139 C 0.23455 0.32902 0.24305 0.33179 0.25069 0.33619 C 0.25607 0.33942 0.26128 0.34359 0.26666 0.34659 C 0.28541 0.357 0.25642 0.33619 0.28246 0.35307 C 0.28628 0.35561 0.28941 0.36 0.29357 0.36139 C 0.29774 0.36278 0.30208 0.36278 0.30625 0.36347 C 0.31406 0.36971 0.31666 0.37203 0.32534 0.37203 L 0.58889 0.36994 L 0.58889 -0.03167 E">
                                      <p:cBhvr>
                                        <p:cTn id="1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other Go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generation should be aut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from world’s raw geometry or from physics collision m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 node placement must be done for all world pieces.  Takes time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0:18:18Z</dcterms:created>
  <dc:creator>dabj</dc:creator>
  <dc:description/>
  <dc:language>en-US</dc:language>
  <cp:lastModifiedBy>Hector Munoz-Avila</cp:lastModifiedBy>
  <dcterms:modified xsi:type="dcterms:W3CDTF">2005-10-25T17:47:26Z</dcterms:modified>
  <cp:revision>22</cp:revision>
  <dc:subject/>
  <dc:title>Pathfinding: Search Space Representations</dc:title>
</cp:coreProperties>
</file>